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70452"/>
        <c:axId val="69607476"/>
      </c:barChart>
      <c:catAx>
        <c:axId val="11470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07476"/>
        <c:crosses val="autoZero"/>
        <c:auto val="1"/>
        <c:lblAlgn val="ctr"/>
        <c:lblOffset val="100"/>
        <c:noMultiLvlLbl val="0"/>
      </c:catAx>
      <c:valAx>
        <c:axId val="69607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70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679-4A6A-4C56-8162-74293F2A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995-21D8-4096-B154-AB6BD45E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E97-E88C-49F4-B208-88BC1CF5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4EF-48FD-46A6-A6D1-36643BD3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2DC-0408-47A3-B3B9-F687BF6B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E7D-B20C-44A6-9472-21D7FA7F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1A4-0080-431B-9879-EDB087EC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A8E-90A7-4F79-A6F2-868DEA2A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1C5-3AD2-422C-99AD-DBF8A5F6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456-075E-4079-B19D-D7CC9A85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D2E-77D6-4669-AD11-C5D1C30A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BD2-F710-4DFD-8B0F-35FCB6B3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46BE9-1240-4A1B-9F67-C007BE24E1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