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0095385"/>
        <c:axId val="71324413"/>
      </c:barChart>
      <c:catAx>
        <c:axId val="8009538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324413"/>
        <c:crosses val="autoZero"/>
        <c:auto val="1"/>
        <c:lblAlgn val="ctr"/>
        <c:lblOffset val="100"/>
        <c:noMultiLvlLbl val="0"/>
      </c:catAx>
      <c:valAx>
        <c:axId val="7132441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09538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5230-611B-4BF4-8298-D19B7983C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9C38-17B2-4E2D-ACF7-8ACF193EE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3E5D-BA67-40EE-B529-991F8FFED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F65A-742F-476C-A190-3AAB3050A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1B93-3AC4-4E49-A825-ED71FBC8C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73F1-FC86-407A-8EB4-DF451ACC6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560E-F40D-49AC-9DEC-053588104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E196-D319-4FA7-95E2-56E1F0A4F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FCBD-2383-4482-853E-4F1F01B50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2982-F5F4-4E9F-83C4-462F3FBBE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1BDE-B7CB-4D39-9FBD-E92928FA5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7068-1A1C-4183-9738-986F19490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F36135-E03F-4F3B-995D-9D78050E2BA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