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726"/>
        <c:axId val="96107811"/>
      </c:barChart>
      <c:catAx>
        <c:axId val="667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07811"/>
        <c:crosses val="autoZero"/>
        <c:auto val="1"/>
        <c:lblAlgn val="ctr"/>
        <c:lblOffset val="100"/>
        <c:noMultiLvlLbl val="0"/>
      </c:catAx>
      <c:valAx>
        <c:axId val="96107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983-86FC-402B-8AE0-28AFCCBF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C3F-6984-4BAF-B58D-8A1036A6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8AD-C907-4537-98AB-6DC5CB19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A82-7D6A-45CB-8C31-2D8CFBF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F54-2EED-4CC4-A472-01BF9F6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8CD-9223-4818-B237-4C22E92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529-F32E-4EA9-8EC4-2668CE29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C7B-6BEA-432C-8807-ED491FF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D5F-06F7-4903-A963-C1F8B484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751-42B7-4101-8174-49141CF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B83-6D75-4BF5-8C2B-76A304B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8F8-8535-4639-AFF6-4762BAE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EA56-0DD8-48DD-B0AE-4F1D8BD51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