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62432"/>
        <c:axId val="77797360"/>
      </c:barChart>
      <c:catAx>
        <c:axId val="454624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97360"/>
        <c:crosses val="autoZero"/>
        <c:auto val="1"/>
        <c:lblAlgn val="ctr"/>
        <c:lblOffset val="100"/>
        <c:noMultiLvlLbl val="0"/>
      </c:catAx>
      <c:valAx>
        <c:axId val="777973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624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FEA-9FC8-464A-A7A5-A2660972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087C-B432-4E1C-A346-3B7F7941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27E-BB15-4E83-94D0-EF911168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DBD-5D91-4FFE-BBAA-A9935879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8E6-CE5C-48BC-BAB6-7AB714B8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ED5-FEFB-4AD6-832F-550094F5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6E12-3604-482B-AFCD-D9FE5D7D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33DA-5956-4EA9-AA73-509BDC2A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787C-F1F7-4924-B8F3-3D09F060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3B7-782C-45B1-BE2B-B556A668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7FE9-C725-4BF8-AA0A-18A50A4E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51C8-D41E-4CE0-AC50-6DA7FC97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22949-6943-40BB-8F02-FE6EB3CA8D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