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98043"/>
        <c:axId val="24141374"/>
      </c:barChart>
      <c:catAx>
        <c:axId val="54298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1374"/>
        <c:crosses val="autoZero"/>
        <c:auto val="1"/>
        <c:lblAlgn val="ctr"/>
        <c:lblOffset val="100"/>
        <c:noMultiLvlLbl val="0"/>
      </c:catAx>
      <c:valAx>
        <c:axId val="24141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98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4AA-8E78-4B98-A3D0-09602023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6F3-F399-4C8E-AAAF-21CA761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FDD-7C10-461D-8B94-DAC14A14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CC1-B9B1-4568-A6C5-572717CE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B6B-2C47-4333-936C-C7F54D2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9EE-2C98-4A69-8616-8125514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977-C053-4B33-B764-60DD3CE0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C8D-DB79-4E76-BE86-E59D1DA8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A90-D73B-42D0-8BBC-75EA1359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148-0997-4131-8EF5-FC3A045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DB4-7C62-4758-A26D-D981D7F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63F-6FB4-40CA-A9BE-B12E02DD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05F67-C7E9-4526-A5C8-F034C8F115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