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67830"/>
        <c:axId val="18613027"/>
      </c:barChart>
      <c:catAx>
        <c:axId val="17667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13027"/>
        <c:crosses val="autoZero"/>
        <c:auto val="1"/>
        <c:lblAlgn val="ctr"/>
        <c:lblOffset val="100"/>
        <c:noMultiLvlLbl val="0"/>
      </c:catAx>
      <c:valAx>
        <c:axId val="18613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67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D42-4A31-4C10-A897-85066BA8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CA0-803C-40D5-9495-EB1AF4F2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231-C517-432B-9AE6-4878FB0C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79C-D57C-4259-8EAD-B80498FF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F59-8828-4146-A393-89B2084A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5C6-107C-4AA3-A20E-B7ACADB4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F9C-B436-4F52-B59D-E4B2C6CD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BDB-30AE-49AD-8ECD-C7E99939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3AD-B7C4-4CBF-8453-0DA48087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592-EE57-46BB-B669-778ACCDE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C39-2B69-4783-A1D0-14B675E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D43-103B-4F4B-B1BE-E366571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A6FE6-8230-4D62-AB60-B824E6DC64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